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943-52C2-481B-AD42-D937FC2D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27B-1BF3-4311-8284-401BD31A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0FB-FCED-485D-8722-0E30E3BC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933-2C6A-4F54-BC9B-11E07E95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DBAA0-9D3F-4EA7-ABBB-7E1E6B35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945D9-6DFF-44EB-8A8C-366282D5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CF709-6BCD-460D-A3E3-193982F2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12D2D-146D-4DD6-B5FB-594B3D0B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EC382-24E6-4564-9531-98B05786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47A4A-0C08-40CF-AA06-DB1B15A3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0136E-A403-4307-86D2-E1BB970B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A5C-0E4B-4C51-8121-030920A7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0B4F4-5A77-4F0D-932F-B9443A2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E1CDB-0664-4506-AEF0-B06A2368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D5FD1-56E6-4F39-949D-02775356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DBAC5-68CD-4C7E-9C6E-005E6FF9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EDF67-D0DD-43F3-BAFF-AD641958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CD4-812D-4D02-BC42-0FC53C05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0CA-2723-493F-8C5A-7E6B417B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96A-FF0F-48F8-BB0F-67738BB6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5FF-3764-4017-9946-D1DD5BE1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AC3-C6F4-4B95-8296-65E8A2BD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FD0-6DD0-4EE0-AE04-66276ED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E43-8CD5-469D-ACD9-639D6E8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C091-C911-45C3-80B9-B60E8E97A3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561D-CBD5-4332-BAC5-D642CE6976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ience 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983040"/>
            <a:ext cx="64008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c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solv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oval of surface material from the earths crust and the moving of the materials wind action, weather, river and stream processes, sea waves, and glaciers cause ero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w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vestiga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feren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dependent variable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sul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exhausti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mosph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er of air that surrounds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37160" y="1395360"/>
          <a:ext cx="199800" cy="2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7160" y="1395360"/>
                    <a:ext cx="1998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erial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thing that has mass and takes up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e of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source that cannot be readily replaced once it is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91960"/>
            <a:ext cx="80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cedur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hysical propert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aracteristics of a substance that can be observed or measured without changing the sub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l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nt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source that is replaced as it is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ientific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a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s that work together to perform a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b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0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nclus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pendent variabl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position of 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dropping, or depositing, sediment in a new 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5:04:00Z</dcterms:created>
  <dc:creator>Martin Lawrenced</dc:creator>
  <dc:description/>
  <dc:language>en-US</dc:language>
  <cp:lastModifiedBy>Rusk25 Elementary School</cp:lastModifiedBy>
  <dcterms:modified xsi:type="dcterms:W3CDTF">2009-04-27T19:03:05Z</dcterms:modified>
  <cp:revision>13</cp:revision>
  <dc:subject/>
  <dc:title>Science Terms</dc:title>
</cp:coreProperties>
</file>